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4A97-EDFE-43A5-AE47-A10F96BB03E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35CB-6AA8-4D65-8536-7123B9296B5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9469-75AF-450B-B7C8-F11F0A6C332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MMENT ON LETTERS TO THE 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DE0A-C06A-42C7-AF6E-760E8360C2C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CC7-1FEA-41AD-9F46-1734B197A6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A9C-9C6C-49F3-B716-CCBEBBA6D4F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A70A-39B9-48C4-B5CC-682CD95F1A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6D8-369E-4402-8B6A-D1BB3E6097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E5F0-A86A-46E6-9190-FF2652F62A2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F575-C7E2-46C7-9139-D402D225A1A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563-B4FE-4B2E-84BD-1941F73AB17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C1F-387C-4347-B576-5DECB2B608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009-0C5C-4B16-88EE-BD299EA4A99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432-9AA8-44F7-BCA3-9A285C768C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CD2-4445-436C-B29A-AFAA0FB69D1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FD4-887B-4106-8576-0EF1E43DE3D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F7D-9B40-4CC2-8AA1-3E5340BFC1E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A10A-45AF-4305-88C9-3024D9DD508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922-B911-4842-B007-39262C9A5A9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3E49-C912-4D32-910D-5D116A0240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143-422B-48AE-BFC1-28E07120A5E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0524-A43A-4031-B664-5309E50F5E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E78-9CB8-42F7-8ACD-ECED5117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807-DAC1-40FF-A039-1EB27FA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D58-DF24-435C-871A-DDC73416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337-C854-40DD-9443-01ECC550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A88-7A48-4B75-A34B-3B520F55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E74-E9FD-4A3B-B2ED-F899D1E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5AC-7E38-40C2-B2D5-20229FF9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4FF-A63D-41F2-BFE4-2F0C140F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AC8-86CD-4A2A-A159-97205D8D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4C3-A2E1-441C-8235-F73E616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67A-6DF8-4873-8448-80B92016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5C6-33E6-454E-B31B-C9294A8F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45C-9106-413E-99FD-C9DDD711E1B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MANAGEMENT  OF ALCOHOL WITHDRAWAL  IN A GENERAL HOSPITAL SETTING- CL PSYCHIATRY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R.HEWKO  MD  FRC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CL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898989"/>
                </a:solidFill>
                <a:latin typeface="Calibri"/>
              </a:rPr>
              <a:t>rhewko@telus.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2 % - 64/124 OF PATIENTS RX DID NOT MEET INCLUS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4 % - 9 PTS UNABLE TO 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5 % - 35 PTS HAD NO RECENT ALCOHOL H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1 % - 20 PTS MET NEITH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DEVOPMENT AND  VAL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IVATE HOSPITAL DET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GE &lt; 60 YRS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TS MEDICALLY CL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GEN. HOSPTI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XCLUSION CRITERIA - 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SEVERITY OF ILL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PRINTED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ED BY AS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00 PTS. IN A VA DET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 PTS OVER AGE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PTS MEDIC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LITERATURE – BENZODIAZE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TS OF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-ANALYSIS HOSPITAL BASED MANAGEMENT OF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LBROOK,CMAJ,MAR 9,1999. 160(5) 649-6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TIVE STUDIES – BENZO’S. NEUROLEPTICS, ANTICONVULSANTS, CHLORAL 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ZODIAZIPINES SAFE AND EFFEC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OF CHOICE FOR TREATMENT OF 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ENZODIAZEPINE SUPERIOR IN EFFICACY /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1 “GOOD”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s 20-30 PATIENTS PER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AN AGE 35-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 STUDIES LTD PTS TO MIL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STUDIES EXCLUDED SEVERELY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AL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DVANTAGES = DISADVAN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SE AND EFFICI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DENTIFY” AT RISK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ITIATE CIWA – TICK BO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RSING STAFF MANAGE THE PATIENT ON “AUTOPILO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ASSESS CIWA S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GIVE BENZOS UNTIL SCORE &lt;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INIMAL ONGOING 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IMPLICATION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ALIDATED FOR RELATIVELY YOUNG, HEALTHY 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TS INAPPROPRIATELY STARTED INTO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OST PHYSICIANS UNAWARE OF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INIMAL FORMAL TE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IMITED PHYSICIAN MONI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DELAYED RECOGNITION OF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OTENTIAL FOR SIGNIFICANT MORBIDITY/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SYCHIATRIC REFERRAL - ONGOING AGITATION / CONFU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- DELI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ELIRIUM – ALCOHOL HX / SEQUELAE OF 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D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T’S 1/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“OTHER”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BENZODIAZEPINE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W AND DELIRIUM OTHER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AND BENZO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SSESSMENT/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IDENCE / ABSENCE OF AUTONOMIC AROUSAL (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AA CONTINUE BENZO’S ADD NEUROLEPTICS REG/P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DROWSY / MIN. AA - TAPER BENZ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TITRATE REG/PRN NEUROLEP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NORMALIZE SLEEP - QUETIA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W - MAJOR AUTONOMIC AROU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RACTORY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GGRESSIVE BENZO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LORAZEPAM 2-4 mg QIH P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REG. BENZO’S – LORAZEPAM / DIAZE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HYPOMAGNESEMI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OTHING TO DISC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YPOMAGNES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MON ISSUE IN PATIENTS AT RISK -MAJOR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YPOMAG.  - INCR. RISK /SEVERITY OF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INCR. RISK SEIZURES / SEIZUR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HYPO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WITHDRAW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BENZO IN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ANIMAL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PLACEMENT – 5 GMs IV Q12H/Q8H 3-6 D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FRACTORY DELI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2 Y/O MALE – ONGOING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Y 4 – DROWSY/ DIS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ING 10 mg LORAZEPAM LAST 2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FUSION/NYSTAGMOUS/ATA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RNICKE’S ENCEPHAL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AMIN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CAL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0 % NEUROLOGIC SEQUELAE EVEN WITH 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- THIA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PARENTERAL IM/IV 100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T LEAST 3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RELIABLE UNTIL ORAL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PROTOCOL NOT VALIDATED IN EDLERLY MEDICALLY COMPR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VERUSED WITH INADEQUAT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SS OF CLINICAL SKILLS / JUD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GNIFICANT INCIDENCE RESIDUAL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LAW SUIT WAITING TO HAPP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 PSYCHIARTY RO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Y MANAG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ONDA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FAILED PRIMARY SERVI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PENDANT ON UNDERSTANDING PRIMARY SERVICE MODEL – CIWA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CLINICAL INSTITUTE WITHDRAWAL ASSESSMENT -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9 ITEMS ASSESSED BY NURSING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LINKED TO A PREPRINTED ORDER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PRIMARY AGENTS - BENZODIAZP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2814" t="14693" r="29218" b="5669"/>
          <a:stretch/>
        </p:blipFill>
        <p:spPr>
          <a:xfrm>
            <a:off x="2071800" y="214200"/>
            <a:ext cx="50720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2346" t="14693" r="27813" b="2575"/>
          <a:stretch/>
        </p:blipFill>
        <p:spPr>
          <a:xfrm>
            <a:off x="2071800" y="214200"/>
            <a:ext cx="514332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PROTOCOL -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IDENCE BAS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 LESS BENZO’S THAN FIXED DOS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STANT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AL PHYSICIAN INVOV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ILY NURSING BASED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SIZE FIT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O CLINIC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ITLE – Inappropriate use of Symptom-Triggered Therapy for Alcohol Withdrawal in the General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uthors – KA Hecksel, JM Bostwick, TM Jae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. Mayo Clin. Proc. 2008;83(3):2004 274-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124 OF 495 PATIENTS RX WITH CIWA PROTOCOL IN TWO MAYO CLINIC AFFILIATED HOSP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ANDOM SELECTION ACCOUNTING FOR AGE/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DMISSION CRITERIA FOR CIWA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LES - &gt; 4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EMALES - &gt; 2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BLE TO COMMUNICATE MEANING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4:00:58Z</dcterms:created>
  <dc:creator>RAH</dc:creator>
  <dc:description/>
  <dc:language>en-US</dc:language>
  <cp:lastModifiedBy>Peter</cp:lastModifiedBy>
  <dcterms:modified xsi:type="dcterms:W3CDTF">2009-10-21T14:06:58Z</dcterms:modified>
  <cp:revision>7</cp:revision>
  <dc:subject/>
  <dc:title>MANAGEMENT  OF ALCOHOL WITHDRAWAL  IN A GENERAL HOSPITAL SETTING- CL PSYCHIATRY PERSPECTIVE</dc:title>
</cp:coreProperties>
</file>